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25.gif" ContentType="image/gif"/>
  <Override PartName="/ppt/media/image29.jpeg" ContentType="image/jpeg"/>
  <Override PartName="/ppt/media/image12.gif" ContentType="image/gif"/>
  <Override PartName="/ppt/media/image24.jpeg" ContentType="image/jpeg"/>
  <Override PartName="/ppt/media/image9.gif" ContentType="image/gif"/>
  <Override PartName="/ppt/media/image11.wmf" ContentType="image/x-wmf"/>
  <Override PartName="/ppt/media/image6.wmf" ContentType="image/x-wmf"/>
  <Override PartName="/ppt/media/image19.jpeg" ContentType="image/jpeg"/>
  <Override PartName="/ppt/media/image10.wmf" ContentType="image/x-wmf"/>
  <Override PartName="/ppt/media/image7.jpeg" ContentType="image/jpeg"/>
  <Override PartName="/ppt/media/image28.jpeg" ContentType="image/jpeg"/>
  <Override PartName="/ppt/media/image5.wmf" ContentType="image/x-wmf"/>
  <Override PartName="/ppt/media/image4.png" ContentType="image/png"/>
  <Override PartName="/ppt/media/image27.wmf" ContentType="image/x-wmf"/>
  <Override PartName="/ppt/media/image23.png" ContentType="image/png"/>
  <Override PartName="/ppt/media/image21.wmf" ContentType="image/x-wmf"/>
  <Override PartName="/ppt/media/image20.wmf" ContentType="image/x-wmf"/>
  <Override PartName="/ppt/media/image18.wmf" ContentType="image/x-wmf"/>
  <Override PartName="/ppt/media/image17.gif" ContentType="image/gif"/>
  <Override PartName="/ppt/media/image2.wmf" ContentType="image/x-wmf"/>
  <Override PartName="/ppt/media/image16.wmf" ContentType="image/x-wmf"/>
  <Override PartName="/ppt/media/image14.jpeg" ContentType="image/jpeg"/>
  <Override PartName="/ppt/media/image15.wmf" ContentType="image/x-wmf"/>
  <Override PartName="/ppt/media/image1.jpeg" ContentType="image/jpeg"/>
  <Override PartName="/ppt/media/image22.jpeg" ContentType="image/jpeg"/>
  <Override PartName="/ppt/media/image3.wmf" ContentType="image/x-wmf"/>
  <Override PartName="/ppt/media/image2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21E9-CCD0-461C-9D5F-5F72F1CA6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2982-D514-4E90-B598-9DC1615D5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B87C-0EF9-4D5B-BD0A-61D8DD306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9D70-35B2-4526-80D7-079B9D305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972B-E8F0-4753-909C-1F17DAD00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B126-44AA-4F63-8916-C97CBFA9C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A5EB-3F69-4B0F-852E-46C62977E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D657-C2D6-4BD9-8367-FACEDA27C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F96D-EC7E-4898-93EB-D62D76863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EA63-6176-44BE-AFB2-E3C73A428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D8DB-80F4-4564-AE5E-9A0035CB8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2CE7-D6EC-478F-8676-335E86F88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30A25-2F36-4B91-9EB4-AB9D44D103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audio" Target="file:///tmp/home/.config/libreoffice/4/user/gallery/~PP424.WAV" TargetMode="External"/><Relationship Id="rId5" Type="http://schemas.microsoft.com/office/2007/relationships/media" Target="file:///tmp/home/.config/libreoffice/4/user/gallery/~PP424.WAV" TargetMode="External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audio" Target="file:///tmp/home/.config/libreoffice/4/user/gallery/~PP1312.WAV" TargetMode="External"/><Relationship Id="rId3" Type="http://schemas.microsoft.com/office/2007/relationships/media" Target="file:///tmp/home/.config/libreoffice/4/user/gallery/~PP1312.WAV" TargetMode="Externa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gif"/><Relationship Id="rId3" Type="http://schemas.openxmlformats.org/officeDocument/2006/relationships/audio" Target="file:///tmp/home/.config/libreoffice/4/user/gallery/~PP3427.WAV" TargetMode="External"/><Relationship Id="rId4" Type="http://schemas.microsoft.com/office/2007/relationships/media" Target="file:///tmp/home/.config/libreoffice/4/user/gallery/~PP3427.WAV" TargetMode="External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audio" Target="file:///tmp/home/.config/libreoffice/4/user/gallery/~PP2663.WAV" TargetMode="External"/><Relationship Id="rId4" Type="http://schemas.microsoft.com/office/2007/relationships/media" Target="file:///tmp/home/.config/libreoffice/4/user/gallery/~PP2663.WAV" TargetMode="External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audio" Target="file:///tmp/home/.config/libreoffice/4/user/gallery/~PP731.WAV" TargetMode="External"/><Relationship Id="rId3" Type="http://schemas.microsoft.com/office/2007/relationships/media" Target="file:///tmp/home/.config/libreoffice/4/user/gallery/~PP731.WAV" TargetMode="Externa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audio" Target="file:///tmp/home/.config/libreoffice/4/user/gallery/~PP260.WAV" TargetMode="External"/><Relationship Id="rId3" Type="http://schemas.microsoft.com/office/2007/relationships/media" Target="file:///tmp/home/.config/libreoffice/4/user/gallery/~PP260.WAV" TargetMode="Externa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audio" Target="file:///tmp/home/.config/libreoffice/4/user/gallery/~PP3901.WAV" TargetMode="External"/><Relationship Id="rId3" Type="http://schemas.microsoft.com/office/2007/relationships/media" Target="file:///tmp/home/.config/libreoffice/4/user/gallery/~PP3901.WAV" TargetMode="Externa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jpeg"/><Relationship Id="rId4" Type="http://schemas.openxmlformats.org/officeDocument/2006/relationships/audio" Target="file:///tmp/home/.config/libreoffice/4/user/gallery/~PP4017.WAV" TargetMode="External"/><Relationship Id="rId5" Type="http://schemas.microsoft.com/office/2007/relationships/media" Target="file:///tmp/home/.config/libreoffice/4/user/gallery/~PP4017.WAV" TargetMode="External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file:///tmp/home/.config/libreoffice/4/user/gallery/~PP3484.WAV" TargetMode="External"/><Relationship Id="rId3" Type="http://schemas.microsoft.com/office/2007/relationships/media" Target="file:///tmp/home/.config/libreoffice/4/user/gallery/~PP3484.WAV" TargetMode="Externa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audio" Target="file:///tmp/home/.config/libreoffice/4/user/gallery/~PP2560.WAV" TargetMode="External"/><Relationship Id="rId5" Type="http://schemas.microsoft.com/office/2007/relationships/media" Target="file:///tmp/home/.config/libreoffice/4/user/gallery/~PP2560.WAV" TargetMode="External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wmf"/><Relationship Id="rId3" Type="http://schemas.openxmlformats.org/officeDocument/2006/relationships/image" Target="../media/image14.jpeg"/><Relationship Id="rId4" Type="http://schemas.openxmlformats.org/officeDocument/2006/relationships/audio" Target="file:///tmp/home/.config/libreoffice/4/user/gallery/~PP2932.WAV" TargetMode="External"/><Relationship Id="rId5" Type="http://schemas.microsoft.com/office/2007/relationships/media" Target="file:///tmp/home/.config/libreoffice/4/user/gallery/~PP2932.WAV" TargetMode="External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gif"/><Relationship Id="rId4" Type="http://schemas.openxmlformats.org/officeDocument/2006/relationships/audio" Target="file:///tmp/home/.config/libreoffice/4/user/gallery/~PP2696.WAV" TargetMode="External"/><Relationship Id="rId5" Type="http://schemas.microsoft.com/office/2007/relationships/media" Target="file:///tmp/home/.config/libreoffice/4/user/gallery/~PP2696.WAV" TargetMode="External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audio" Target="file:///tmp/home/.config/libreoffice/4/user/gallery/~PP2131.WAV" TargetMode="External"/><Relationship Id="rId3" Type="http://schemas.microsoft.com/office/2007/relationships/media" Target="file:///tmp/home/.config/libreoffice/4/user/gallery/~PP2131.WAV" TargetMode="Externa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wmf"/><Relationship Id="rId3" Type="http://schemas.openxmlformats.org/officeDocument/2006/relationships/audio" Target="file:///tmp/home/.config/libreoffice/4/user/gallery/~PP1363.WAV" TargetMode="External"/><Relationship Id="rId4" Type="http://schemas.microsoft.com/office/2007/relationships/media" Target="file:///tmp/home/.config/libreoffice/4/user/gallery/~PP1363.WAV" TargetMode="External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jpeg"/><Relationship Id="rId3" Type="http://schemas.openxmlformats.org/officeDocument/2006/relationships/audio" Target="file:///tmp/home/.config/libreoffice/4/user/gallery/~PP1080.WAV" TargetMode="External"/><Relationship Id="rId4" Type="http://schemas.microsoft.com/office/2007/relationships/media" Target="file:///tmp/home/.config/libreoffice/4/user/gallery/~PP1080.WAV" TargetMode="External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h war in Californi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urt Reith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4191120"/>
            <a:ext cx="3352680" cy="22525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334120" y="380880"/>
            <a:ext cx="2749320" cy="14986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6095880" y="3657600"/>
            <a:ext cx="1938600" cy="20574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>
            <a:hlinkClick r:id="" action="ppaction://media"/>
          </p:cNvPr>
          <p:cNvPicPr/>
          <p:nvPr>
            <a:audi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6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ch habe UCLA Campus besichtig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371600" y="1600200"/>
            <a:ext cx="6400800" cy="44197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92"/>
                </p:tgtEl>
              </p:cMediaNode>
            </p:audio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h habe Hollywood gefilm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057400" y="2666880"/>
            <a:ext cx="5410080" cy="36133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609480" y="2666880"/>
            <a:ext cx="1168560" cy="35053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97"/>
                </p:tgtEl>
              </p:cMediaNode>
            </p:audio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ch habe den hamburger gegess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410080" y="2362320"/>
            <a:ext cx="2357640" cy="22874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838080" y="2743200"/>
            <a:ext cx="3276720" cy="23670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02"/>
                </p:tgtEl>
              </p:cMediaNode>
            </p:audio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ch habe Arnold Schwarzenegger sprachen geh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ö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514600" y="1828800"/>
            <a:ext cx="3971880" cy="39718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06"/>
                </p:tgtEl>
              </p:cMediaNode>
            </p:audio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s Angeles geht mir gefall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80880" y="1219320"/>
            <a:ext cx="8382240" cy="53974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1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10"/>
                </p:tgtEl>
              </p:cMediaNode>
            </p:audio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u musst Los Angeles besichtigg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04920" y="1258920"/>
            <a:ext cx="8458200" cy="55990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14"/>
                </p:tgtEl>
              </p:cMediaNode>
            </p:audio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h war im Hot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14400" y="3200400"/>
            <a:ext cx="1805040" cy="15382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095880" y="3886200"/>
            <a:ext cx="1325520" cy="13255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3733920" y="2362320"/>
            <a:ext cx="2077920" cy="36576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>
            <a:hlinkClick r:id="" action="ppaction://media"/>
          </p:cNvPr>
          <p:cNvPicPr/>
          <p:nvPr>
            <a:audi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2"/>
                </p:tgtEl>
              </p:cMediaNode>
            </p:audio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h war in Los Ange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124080" y="1752480"/>
            <a:ext cx="5029200" cy="38563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6"/>
                </p:tgtEl>
              </p:cMediaNode>
            </p:audio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h bin geschwomm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562720" y="4114800"/>
            <a:ext cx="2914560" cy="14796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5257800" y="1981080"/>
            <a:ext cx="1812960" cy="716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1828800" y="2895480"/>
            <a:ext cx="3400560" cy="25448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>
            <a:hlinkClick r:id="" action="ppaction://media"/>
          </p:cNvPr>
          <p:cNvPicPr/>
          <p:nvPr>
            <a:audi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62"/>
                </p:tgtEl>
              </p:cMediaNode>
            </p:audio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ch habe Los Angeles fotografie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809880" y="4800600"/>
            <a:ext cx="2219400" cy="18097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6400800" y="1523880"/>
            <a:ext cx="1917720" cy="20876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1447920" y="1828800"/>
            <a:ext cx="3886200" cy="25909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>
            <a:hlinkClick r:id="" action="ppaction://media"/>
          </p:cNvPr>
          <p:cNvPicPr/>
          <p:nvPr>
            <a:audi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68"/>
                </p:tgtEl>
              </p:cMediaNode>
            </p:audio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h habe baseball gespiel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800600" y="2133720"/>
            <a:ext cx="2762280" cy="21398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4419720" y="4572000"/>
            <a:ext cx="3657600" cy="13730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1523880" y="2057400"/>
            <a:ext cx="2094120" cy="23623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" action="ppaction://media"/>
          </p:cNvPr>
          <p:cNvPicPr/>
          <p:nvPr>
            <a:audi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74"/>
                </p:tgtEl>
              </p:cMediaNode>
            </p:audio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h habe baseball gescha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572000" y="1828800"/>
            <a:ext cx="2754360" cy="3532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78"/>
                </p:tgtEl>
              </p:cMediaNode>
            </p:audio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h habe den Freund besuc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3809880" y="1905120"/>
            <a:ext cx="4648320" cy="30826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838080" y="2743200"/>
            <a:ext cx="2713320" cy="20131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83"/>
                </p:tgtEl>
              </p:cMediaNode>
            </p:audio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h habe sharks geseh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334120" y="2590920"/>
            <a:ext cx="2525760" cy="16970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62120" y="3429000"/>
            <a:ext cx="3657600" cy="24382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88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4T17:23:15Z</dcterms:created>
  <dc:creator>CUSD220</dc:creator>
  <dc:description/>
  <dc:language>en-US</dc:language>
  <cp:lastModifiedBy>CUSD220</cp:lastModifiedBy>
  <dcterms:modified xsi:type="dcterms:W3CDTF">2011-11-15T17:48:05Z</dcterms:modified>
  <cp:revision>4</cp:revision>
  <dc:subject/>
  <dc:title>Ich War in California</dc:title>
</cp:coreProperties>
</file>